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EC8-2432-4737-BD02-9B6A6FEA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759-1A51-4D5D-84EC-AFAAF78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A9F-7AD9-49CC-A616-B9EF0C2B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65D-D62C-42F8-8C8C-692C33DC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FAD-8AD8-45CD-9CD4-684EA6DE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042-1DE7-4670-8AF6-0C84463A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D07-5DA2-4BA8-B1CC-FC799D9A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B2A-2CE8-4B8B-808E-DA4C1BBB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00A-F93E-40AF-B9C3-32DA4B27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566-D478-457F-805A-EFC3839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2C9-1250-4F1C-809D-3A3F935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AF2-EEC5-48FE-8945-CC41BED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C14-5DDB-4E6E-809C-E28280380B3B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новни принципи 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3520" y="1356840"/>
            <a:ext cx="7386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има благотворно дејство на тетиве и лигам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промене на тетивама 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динити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 дегенерација колагена у тетиви. Масажа побољшава пролиферацију фибробласта&gt; опоравак оштећеног тк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ерапиј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осиновитис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р смањује упалу и иритацију, и спречава настанак адхезија између тетиве и њеног омота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повреда меких ткива, услед имобилизације и смањења покрета долази до стварања вишка везивног ткива (ожиљка). Ожиљак може ометати преношење импул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тицај масаже на псих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шке и физичке компоненте здравља тесно повезане у процесу постизања и одржавања и оптималног здравља Осећај релаксираности није само последица смањеног мишићног тону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ањује стрес и анксиозност, делује сугестивно и опуштајуће на психу, умирује напетост, терапијски делује на нервозу, главобољу и несаниц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је корисна и за масера. Заједничка искуства и активности зближавају људе, и представљају посебан вид комуникације (близак контакт између две ос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одир и интеракција између пацијента и масера представљају један од главних елемената ефикасности масаже. Поверење у масера има важну у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ни приступ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3520" y="713880"/>
            <a:ext cx="85946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и  ефекти масаже нису последица директних физич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з одговора које регулише В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ан од најјачих рефлексних одговора 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дговор имуног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, а последично и убрзан процес оздрављења (смањује нивое хормона стреса&gt;побољшање имуните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нижава Т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хемијски и психолошки фактори),  и поправља циркулац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везивног ткива доводи до повећања протока крви кроз орга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ктивирајући кутано-висцералне рефлексе. Ови рефлекси поправљају циркулацију у датој регији, и доводе до смањења осећаја бола. Аналгетски ефекат масаже објашњава се и отпуштањем бета-ендорф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ни ефекти масаже посебно су изражени у  Туи На, Шијацу, акупресу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920" y="8568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се изазват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сцеросомат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ефлекс. Овај рефлекс укључује реакције у ЦНС путем висцералних (органа) и соматских ткива (обично мишићни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вна влакна  иду до трбушних органа, и од њих, излазе из кичмене мождине на истом нивоу као и сензорна и моторна влакна за леђне и трбушне мишиће. Због анатомске близине, развијају се рефлексни лукови између висцералних и соматских влакана који омогућавају њихову интеракцију. Вишак сензорних импулса из дисфункционалних органа може путовати ка кичменој мождини и „прелити“ се у рефлексном луку до мишићног ткива, чија моторна влакна полазе са истог нивоа, изазивајући повећање моторних сигнала и последично повећање мишићне напет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нути процес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матовисцерални рефле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дразумева «преливање» сигнала из пренапетих мишића до нерава који воде до органа, што доводи до дисфункционалног нивоа стимулације органа и евентуалних поремећаја рада орг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Општа дејств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3520" y="500040"/>
            <a:ext cx="7386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 општег зам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ација мишићног тон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ње циркулације и лимфот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ч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окалн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3520" y="785880"/>
            <a:ext cx="738648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перем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ње метаболиз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ност знојних и лојних жлез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сорпција ото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ећање тургора и еластичности кож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 епителизације и гранул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азмолитич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63520" y="571680"/>
            <a:ext cx="7386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лојеви ко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Епидерм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је горњи, површнији слој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азални слој  је дубљи,  непрестано производи нове ћелије, које се постепено померају ка 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старе и умиру. Тиме је површина коже прекривена мртвим ћелијама пуним кератина, који кожи даје чврст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Дерм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има крвне и лимфне судове, нерве, фоликуле длака, знојне и лојне жлез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лој поткож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рт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ле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егнут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ластич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о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рго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.);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тк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ноћ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рављ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с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сање, отпор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аж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лез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ре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-3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еспрекор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том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олог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шт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лп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таљ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р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зуе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серв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уел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рет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/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елет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di Caprio,200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 циркулације у крвним судовима 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им механичким дејством на крвне и лимфне суд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ем вазоактивних мате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м аутономног нервног система на стимулацију ћел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es, 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3520" y="404280"/>
            <a:ext cx="81662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времено повећ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масиране регије за 2 до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још један од доказа постојања хиперемије. 30 минута од завршетка масаже кожа поново 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коју је имала пре масаж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зам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ном хиперемиј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им 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вом на кож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)везивно ткиво постаје растреситије, а тиме кожа мек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) поправља  отпорност коже на спољашње утицаје Ефекат заштите се може појачати добро одабраним средством за масаж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) доприноси здрављу и еластичности коже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) убрзава  метаболизам, поготову метаболизам азотних материја, и повећава излучивање мокра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ноги аутори препоручују благу и постепену масажу зглобова кратко време након повреде, да би се брже ресорбовао 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олико није реч о тешкој повреди зглоба, која захтева имобилизацију, већ 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трећег дана од наста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 почети изнад и испод зглоба, а тек онда прећи на масажу самог згл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једини аутори сматрају да  директно дејство на зглобове треба потпуно избегава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onsengei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убризгавао туш у колена експерименталног зеца, пре масаже;  једно колено је масирао, а друго не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ш из масираног колена дошао чак до препоне, б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 је  у локалним лимфним жлездама и лимфотоку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страни која није масирана туш је остао на месту апликаци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zar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имфа најбрже истиче из цевчице постављене у лимфни суд пса када се пас креће, нешто спорије кад се нога пса масира, а најспорије кад нога мируј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зив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57160"/>
            <a:ext cx="7650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deltoide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uglast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m trapezi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pezoidn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rhomboideus.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 intrecostale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између ребара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front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чео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flexor carpii 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гибач руч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а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gluteus maximus 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 у групи;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peroneus long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дуги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дуж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roneus brev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кра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бли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lel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t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 biceps femoris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sartor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ast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spore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nos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tiv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šić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ni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.ext digitorum longus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bipennatus (m.rectus femoris) multipennatus ( m.deltoide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rkular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cent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č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ir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inkt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rbicularis ocul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 полазиш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brachii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t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surae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extensor carpi radialis 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мишић који исправља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ручј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arp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 лежи дуж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jus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и дужи је од осталих мишића своје груп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3160" y="260280"/>
            <a:ext cx="83091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 за свој рад троше велику количину О2 и хран материја, који стижу кс. Отпад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леч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ис и карбами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 отклањају се у супротном смеру. Уколико се после напора мишић не одмори, остаје нагомилана млечна кис (тзв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,,упала мишића,,).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ини се могу задржати у мишићу и успоравати циркулацију и доток хранљивих материја. Временом овакав мишић постаје напет и крут, а мишићно влакно бива замењено везивним влакнима. Ова  задебљања се називају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иогелозе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под прстима се могу напипати, и болна су на дод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3520" y="999720"/>
            <a:ext cx="85233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виду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иш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различ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рив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есион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тан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ега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што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шић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3160" y="1214280"/>
            <a:ext cx="8094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икас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ор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рмализ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н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нтокс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ук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горе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троф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нервиса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огел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nstain (1923): “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рмализација тонуса  и мишићна релаксациј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асимпатик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љ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руж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о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им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bludovsk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 испитаник је могао да подигне терет у шаци од 1 к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брзином од 1 покрета у секунди 840 пута.  Ако би огледу претходила масажа руке, исти испитаник је могао да изведе 1100 понављ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сперимети који су изведени убризгавањем радиоактивних изотопа у испитивани мишић нису потврдили ни убрзање елиминације метаболита, нити повећање температуре у самом мишић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ом се може утицати на еластичност мишића, а тиме посредно и на већи обим покрета у зглобов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Nordchow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је експериментално доказао на групи добровољаца да је растојање између врхова прстију и тла при антефлексији трупа било мање након спровођења масаже, у односу на  вредности регистроване  пре маса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фекти масаже на масно тки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senth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можемо утицати на редукцију масног ткива и мрш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приноси бржем и ефикаснијем елиминисању метаболичких продуката. Утиче на еластичност коже, чиме кожа лакше прати морфолошке промене при губитку теж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фек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имулише периферне нерве директним дражењем нервних наставака у кож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Н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иректно, преко периферних нера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 реаговањ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Y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ом се шире крвни судови, што би резултирало падом 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S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кундарно, крвни притисак и вредности пулса се повећавају, дисање постаје убрзано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нуел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вор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аљењ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зумир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егулис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ш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а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зл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сре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ди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војих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ћ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Overworking yorself will o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ad the breakdown of the bod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WHEN ?    WHAT?  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ако је масажа метода позната хиљадама година људском роду, научна истраживања  њеног дејства на организам релативно су  новијег  датума и  малоброј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оја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, притиском на кожу масиран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ректно, изазивајући рефлексне про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а дејства 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3160" y="857160"/>
            <a:ext cx="8094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роток ткивних теч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рзање протока крви и лимф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Ресорпција ото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уромускуларни сист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гулација тонуса    Аналгетски ефекат    Смањење зам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Везивно тки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 покрет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мекшавање адхезија и ожиља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сихолошк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 депресије и анксиоз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Рефлексн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 иму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/регулација крвног прити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њење бола на удаљеним мес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церосоматски и соматовисцерални рефлек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13920"/>
            <a:ext cx="7650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ватови вршени у смеру кретања венске крви и лимфе убрзавају; у супротном смеру успоравају крета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Ризик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асност да се покрене тромб и изазове емболија, КВ, церебрална и друга оштећењ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д убрзавања системског крвотока, масажа побољшава проток крви кроз мале капиларе, кроз које проток крви може бити ограничен услед мишићне напетости. Овај ефекат је обично одмах уочљив настанком хиперемије и повећањем локалне температуре тки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160" y="1143000"/>
            <a:ext cx="830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ледица различитих повреда меких ткива, коштаних прелома, реуматизама, итд. Вишак течности успорава процес оздрављења ткива. Глађе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тискањем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Д&gt; убрзати лимфоток и тиме поспешити ресорпцију от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пала мишић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-услед пуца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еђеног броја везивних влакана&gt;инфламација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, проме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дности. Оток врши притисак на ноцицепторе&gt;бол. Побољшањем циркулације и лимфотока масажа убрзава опоравак након упале мишића, смањује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на масаже на нер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-мишић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ан од најчешћих разлога за примену масаже јест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мањење мишићне напето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Мишићна напетост&gt; исхемија, отпор на истезање, иритација ноцицеп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 може смањити напетост мишића, као и смањити осећај бола путем специфичног механизма 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te control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3520" y="1071720"/>
            <a:ext cx="7386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ције обавијају анатомске структуре појединачно и сачињене су углавном од везивног ткива. Смањена покретљивост везивног ткива може бити један од разлога бројних мускулоскелет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режа везивних ткива повезује делове тела , тако да притисак на један део утиче и на друге делове тела. Лаганим дуготрајним притиском и истезањем,везивна влакна се издужују и смањује се напетост фас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авна истраживања показују да, поред мишићне тетиве, и везивно ткиво преноси силу мишићне контракције на кости и околне структуре. Смањењем тензије везивног ткива, масажа утиче и на тонус у мишић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19:52:12Z</dcterms:modified>
  <cp:revision>83</cp:revision>
  <dc:subject/>
  <dc:title>Uvod u masažu</dc:title>
</cp:coreProperties>
</file>